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7B74-7B1E-4E09-9B03-FDC80C11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183C-AB26-4B7C-8327-C2244A4D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C4D9-331B-4C7C-8629-C1844706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16E5-EF08-4B95-9D4A-567A3767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CAA4-9CC7-4360-880F-21B900E4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BE0A-7306-4277-8EBB-03EB3836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9F1-DB80-48BC-8B21-22F62FCC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682A-398F-419E-A352-6DD356BA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8398-C6C7-47F0-8F19-932941CC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30A3-884D-4AF5-A71C-0D64F79C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4886-FE1B-44F5-AD02-93076C2C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CF93-5974-410C-836A-2F778B06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25C4-6C0D-4728-9EC8-66EEA79F3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214880" y="0"/>
            <a:ext cx="4971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886200" cy="10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مباركٌ من فدانا بموتِهِ وأحيانـ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يا فادينـــا حقّقْ فينا سرَّ الفـد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الآلامَ وموتـَـكَ والقيامـــــة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449568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 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يـا مـن غـدا في المماتِ سـرَّ الفِدا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  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            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للحياةِ ربَّ الجودِ فوقَ العودِ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         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يــا للحـبِ  حـبِّ الـربِ غمـرِ الحــبِ اللامحـدودِ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525780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بارك يومُ الجمعة يسقـي الرجـا صِدقَ الدمعـ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شدو البيعـة لفاديهـا الإبـنِ الحبيب الممدودِ على الصليب رهنِ التعذي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3809880" cy="10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نمجدُ الآبَ المحجوب ونحمَدُ الإبنَ المصلوب نشدو الشكر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الـروحَ الحنـّانْ ألثالوثَ اللّـهَ الأوحدْ سراً يُعبَدْ طولَ  الأزمان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27544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6:11:23Z</dcterms:created>
  <dc:creator>SUZANNE.MD</dc:creator>
  <dc:description/>
  <dc:language>en-US</dc:language>
  <cp:lastModifiedBy>HANI SAFI</cp:lastModifiedBy>
  <dcterms:modified xsi:type="dcterms:W3CDTF">2003-04-16T13:59:54Z</dcterms:modified>
  <cp:revision>3</cp:revision>
  <dc:subject/>
  <dc:title>PowerPoint Presentation</dc:title>
</cp:coreProperties>
</file>